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C232-2CFE-436F-8554-3D5C4A2E8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BACD-AEE0-406B-8E6C-D7C86A669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eneed.nlm.nih.gov/images/dna_replication_sm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5D53-7A4E-4DF5-9F4C-2B2641B77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9160-8568-400E-BB50-0ECD36D06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3687-6408-4C09-9D77-4EE39CA48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E48B-CC3B-4B7B-8E6D-F0328E88E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4D03-30A9-417B-872E-B11A34C3D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9F9C-20B0-4CF3-AD33-DA0C3AE98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D32A-A402-445A-BB33-53F5CB785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D993-6B0E-459C-9CBF-6EF8367DB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1A65-ACB7-4FC2-AF04-67F948BFD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animation: http://www.wiley.com/legacy/college/boyer/0470003790/animations/animation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99CF-46C6-454B-A926-764567DC7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website: http://www.biology.arizona.edu/molecular_bio/problem_sets/nucleic_acids/nucleic_acids_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693A-736B-40F4-A859-18B47DC9B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C257-EA5E-4AFE-A725-4BBF83014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website: http://www.johnkyrk.com/DNAreplic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4B06-9A0A-4C52-9A58-71D5357EB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accessexcellence.org/RC/VL/GG/possible.php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B338-21DA-4C48-9C0B-3526077C9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2795-A94F-4677-8827-6EB7B4B56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5509-CFA3-49C9-A650-810D7FD54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video page: http://highered.mheducation.com/sites/0072437316/student_view0/chapter14/anim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 old Powerpoint</a:t>
            </a:r>
            <a:r>
              <a:rPr b="0" lang="is-IS" sz="1200" spc="-1" strike="noStrike">
                <a:solidFill>
                  <a:srgbClr val="000000"/>
                </a:solidFill>
                <a:latin typeface="Arial"/>
              </a:rPr>
              <a:t>…source is not cred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B082-FB19-435B-A19D-2C79B1BB5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animation: http://highered.mheducation.com/sites/0072437316/student_view0/chapter14/anim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CEEA-AE22-4B74-9030-0132727F3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users.rcn.com/jkimball.ma.ultranet/BiologyPages/D/DNAReplication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9DFD-B0CE-4DC7-8BA8-550EA9C70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haronchoi-sbi4u.blogspot.com/2010/09/dna-replication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EF3-DF4F-4A7C-B8D0-C57FCA72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78C-1847-42A8-987C-AF4F5380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6A4-7CDE-4B92-8B61-1580565F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2A5E-9FD7-40F4-BAFE-A8C51135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D9B-1623-41C2-A27E-8AA5653F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B05-1DB2-4795-94A1-D9621FEA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6EB-11F8-4AA8-B4CD-AD7AD4E1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42B-AB5F-4712-8D79-EE58ED83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0D8-9F8C-419C-A49A-D58B8C90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794-31C9-40C1-BA30-0FFFC535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766-03AD-4D21-A5F3-8487D182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3D3-F08B-481C-A8F1-E7D4568F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C685-021C-4F4E-84B9-6B6355B05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helic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eaks H-bonds between complementary base pairs, unwinding the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-stranded binding proteins (SSB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nd to the unwound single strands of DNA to prevent the H-bonds from ref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oisomer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ieve tension caused by the unwinding of the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ut both strands and allow them to swivel around each other, then reseal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thesizes an RNA primer of 10-60 base pairs to the template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ds complementary nucleoside triphosphates in the 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rection to the RNA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800px-DATP_chemical_structure"/>
          <p:cNvPicPr/>
          <p:nvPr/>
        </p:nvPicPr>
        <p:blipFill>
          <a:blip r:embed="rId1"/>
          <a:stretch/>
        </p:blipFill>
        <p:spPr>
          <a:xfrm>
            <a:off x="5867280" y="5181480"/>
            <a:ext cx="22100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ing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uilt continuous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w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replication f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gging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uil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replication fork, and is built in short segment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azaki 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moves RNA primers (from both the leading and lagging strands) and replaces them with deoxyribo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lig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Okazaki fragments into one strand, through creation of phosphodiester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eck new strands of DNA for errors as they are synthes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onucle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xcising incorrect nucleotides and adding the correct nucleotides to the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Prokaryotic &amp; Eukary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usually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 replication ori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rokaryotic DNA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 than one replication ori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ukaryotic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Prokaryotic &amp; Eukary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karyotic cell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NA polymerase I, II, and I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n replication and repair;  in eukaryotic cells, ther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 than 3 different types of DNA poly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teractive animation with questions is a good self-study tool.  Click on “DNA Replica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ology Project” is a fantastic site hosted by the University of Arizona.  At this part of the site there are multiple-choice problem sets.  Try the problem sets on Meselson-Stahl and 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replication is essential for mitotic &amp; meiotic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NA replica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i-conserv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rv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(con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’m not a huge fan of this site, but it’s interesting to see the molecular structures of the DNA &amp; enzymes during the animation of DNA replic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-conserva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ossible"/>
          <p:cNvPicPr/>
          <p:nvPr/>
        </p:nvPicPr>
        <p:blipFill>
          <a:blip r:embed="rId1"/>
          <a:stretch/>
        </p:blipFill>
        <p:spPr>
          <a:xfrm>
            <a:off x="2373480" y="1981080"/>
            <a:ext cx="439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(195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teria in medium containing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(heavy isotope of nitrogen) for 17 generations, ensuring that bacterial DNA was labelled with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labelled bacteria into a medium containing only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and allowed it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centrifuged samples of th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labelled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Experi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“Meselson and Stahl Experiment” animatio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Meselson &amp; Stahl exper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the results have been if DNA replication was conserva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estahlexp"/>
          <p:cNvPicPr/>
          <p:nvPr/>
        </p:nvPicPr>
        <p:blipFill>
          <a:blip r:embed="rId1"/>
          <a:stretch/>
        </p:blipFill>
        <p:spPr>
          <a:xfrm>
            <a:off x="2209680" y="2743200"/>
            <a:ext cx="44830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 Enzym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ch “How nucleotides are added in DNA replication”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43000" y="2438280"/>
          <a:ext cx="6858000" cy="30481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heli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isomer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polymerase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polymerase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lig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ReplicationFork"/>
          <p:cNvPicPr/>
          <p:nvPr/>
        </p:nvPicPr>
        <p:blipFill>
          <a:blip r:embed="rId1"/>
          <a:stretch/>
        </p:blipFill>
        <p:spPr>
          <a:xfrm>
            <a:off x="2550960" y="1981080"/>
            <a:ext cx="404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DNA replication"/>
          <p:cNvPicPr/>
          <p:nvPr/>
        </p:nvPicPr>
        <p:blipFill>
          <a:blip r:embed="rId1"/>
          <a:stretch/>
        </p:blipFill>
        <p:spPr>
          <a:xfrm>
            <a:off x="690480" y="1981080"/>
            <a:ext cx="776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2:41:59Z</dcterms:created>
  <dc:creator>rubina khan</dc:creator>
  <dc:description/>
  <dc:language>en-US</dc:language>
  <cp:lastModifiedBy>rubina khan</cp:lastModifiedBy>
  <dcterms:modified xsi:type="dcterms:W3CDTF">2015-11-10T03:00:31Z</dcterms:modified>
  <cp:revision>135</cp:revision>
  <dc:subject/>
  <dc:title>Molecular Genetics</dc:title>
</cp:coreProperties>
</file>